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gif" ContentType="image/gif"/>
  <Override PartName="/ppt/media/image7.wmf" ContentType="image/x-wmf"/>
  <Override PartName="/ppt/media/image12.wmf" ContentType="image/x-wmf"/>
  <Override PartName="/ppt/media/chimes.wav" ContentType="audio/x-wav"/>
  <Override PartName="/ppt/media/image16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E40B-2ED6-47F2-B73C-E58FE46D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AE3D-3205-4740-AB34-BCE5837A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D3C6-5C80-4333-A3E2-EF5853C1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0587-19C9-4659-A04E-76A6FC55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8D55-2325-41A0-B3C0-2CF97EB6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0F9B-8940-49C9-ACFC-89B173D7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DCBC-1326-448F-96DD-B3A49D73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93FD-1043-4DD2-9FA4-2457BE6D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C256-F989-4DCC-A016-10B02710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646F-E270-436A-8B24-31F40008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D552-252C-44AB-AC85-C97431BD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FA970-4F29-4660-A89F-002D5B98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E446-3439-41E7-A2DE-7CA87D7E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8036-7038-4387-8361-087346FA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CD24-740E-4DD7-A7C4-83BCF7A8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ECFA-9E26-42CC-9480-B568129D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28FD-B2DE-4017-900D-DF226185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A7F9-B5EF-434B-B121-B01A8835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220A-AC3F-46AE-A70D-F7A7AA1F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E04E-78D0-44E8-88AB-D025F692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2913-8550-4F0C-BC1F-BA2E45FF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6DFF-30CA-4049-8E57-9E749340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7ABF0-CCE5-4887-A4A3-2BFA4E66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CAF4-8BFC-4C03-B4A6-2EE85D30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6AC2-AAE6-48CD-AF44-B6500DA61B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1AF6-0FCB-483C-8734-24A754FC3B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fdef6"/>
                </a:solidFill>
                <a:latin typeface="Arial"/>
              </a:rPr>
              <a:t>Personification</a:t>
            </a:r>
            <a:endParaRPr b="0" lang="en-US" sz="8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water beckoned invitingly to the hot swimmers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4108320" cy="24084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5003640" y="3860640"/>
            <a:ext cx="36388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snow whispered as it fell to the ground during the early morning hours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987880" y="3833640"/>
            <a:ext cx="31561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china danced on the shelves during the earthquake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556000" y="39337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car engine coughed and sputtered when it started during the blizzard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777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Can you think of your own example of personification for leaves falling to the ground from the tree?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-1611360"/>
            <a:ext cx="9144000" cy="10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aves danced to the 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aves hopped off the t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aves waved goodbye to the t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aves cried out in pain as they fell from the t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 House Awak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use awakes and stretches it chimneys to the sk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oor opens to greet the passers b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urtains open and the windows peer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ina dances on the mantelpiece as the family start to sh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2637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What is the object being personified?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187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aning of the personific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wind sang her mournful song through the falling leaves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716360" y="3141720"/>
            <a:ext cx="41022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microwave timer told me it was time to turn my TV dinner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627280" y="3645000"/>
            <a:ext cx="4321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video camera observed the whole scene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275760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strawberries seemed to sing, "Eat me first!"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4067280" y="4149720"/>
            <a:ext cx="14508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rain kissed my cheeks as it fell.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2479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daffodils nodded their yellow heads at the walkers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400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1:49:01Z</dcterms:created>
  <dc:creator>Lucy Rotherham</dc:creator>
  <dc:description/>
  <dc:language>en-US</dc:language>
  <cp:lastModifiedBy>Jamison Renfro</cp:lastModifiedBy>
  <dcterms:modified xsi:type="dcterms:W3CDTF">2007-11-13T02:24:03Z</dcterms:modified>
  <cp:revision>7</cp:revision>
  <dc:subject/>
  <dc:title>Personification</dc:title>
</cp:coreProperties>
</file>